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808B7-7DE2-44B2-9580-E74C1949A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FA38-5D13-42C6-92A1-91CD832B6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9A704-49FC-4CEF-80C3-0B6B7DC94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107D0-2872-4F38-911A-0788578E6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A207D-15E7-4692-9224-85B2169BA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EE22D-C9BD-4380-8A75-C9F4BCB12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AFCE1-E886-4805-9380-D0E8C4C51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B452-A03E-4A38-9AE0-E309AB041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F5D6B-5DDF-4F22-B494-EF10C2149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771F8-FB42-43D6-AD14-1444F0805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3154E-1626-46A3-BAFC-F2875E79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BECFA-7F42-4C16-9F68-924B3EBF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2807E-4102-489A-90E4-A2A0E49A5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FCDB9-2A71-4AA9-9B66-B11BFBE2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7EFD7-E9B5-4A35-90ED-184991CA3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A5F7E-B181-482F-A8D4-B389A7915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8979B-3073-4BA1-AB7E-7FBC68077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30EC-7BC2-49EE-B775-DAD9143C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5BAD-D61E-4166-BA7B-9081D2EA7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FF82-6518-4692-A3EB-20FADA92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AF0E-0597-4DBB-A749-C6788BFB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E691-2C6A-40B4-BA17-34D65930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E6D0-CBFB-48DC-8CA2-A4C1608F5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E3A2-1D51-4E8F-8585-C7A4BFC3C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2D88-4250-4A6C-95C8-435E093FEF76}"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64FF-01E5-4000-A2EA-34FF7AD7F3A1}"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66ff"/>
                </a:solidFill>
                <a:latin typeface="Franklin Gothic Heavy"/>
              </a:rPr>
              <a:t>Özel Eğitimde Bireyselleştirilmiş Eğitim Programları Geliştirme Semineri</a:t>
            </a:r>
            <a:br>
              <a:rPr sz="3200"/>
            </a:br>
            <a:br>
              <a:rPr sz="3200"/>
            </a:br>
            <a:r>
              <a:rPr b="0" lang="tr-TR" sz="2400" spc="-1" strike="noStrike">
                <a:solidFill>
                  <a:srgbClr val="009900"/>
                </a:solidFill>
                <a:latin typeface="Franklin Gothic Heavy"/>
              </a:rPr>
              <a:t> Esenköy Hizmet-içi Eğitim Enstitüsü  - Yalova</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331640" y="5157360"/>
            <a:ext cx="6553080" cy="5540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Bodoni MT Black"/>
              </a:rPr>
              <a:t>Yrd. Doç. Dr. Hakan SARI</a:t>
            </a:r>
            <a:endParaRPr b="0" lang="en-US" sz="2800" spc="-1" strike="noStrike">
              <a:solidFill>
                <a:srgbClr val="000000"/>
              </a:solidFill>
              <a:latin typeface="Arial"/>
            </a:endParaRPr>
          </a:p>
        </p:txBody>
      </p:sp>
      <p:sp>
        <p:nvSpPr>
          <p:cNvPr id="88" name=""/>
          <p:cNvSpPr/>
          <p:nvPr/>
        </p:nvSpPr>
        <p:spPr>
          <a:xfrm>
            <a:off x="2411280" y="4149720"/>
            <a:ext cx="51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8-22 Temmuz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2. Yıllık Amaç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u amaçlar çocuğun bir yılda başarabileceği  amaçlar olmalıdır.  Bu amaçlar kısa dönemli amaçlara veya daha küçük parçalara sırasıyla sıralanır. Yıllık amaçlar  akademik,  sosyal veya davranışsal,  fiziksel  veya diğer eğitsel ihtiyaçlarla ilgili olabilir. Amaçlar çocuğun başarıp başarmadığını anlamak için gözlenebilir ve ölçülebilir  olmalı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3. Özel eğitimle ilgili hizmetl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te çocuğa verilecek hizmetler veya çocuk adına yapılacak hizmetler listelenmelidir. Bunlar:  araç  gereçler,  programdaki değişimler,  okul  personeli için destek hizmetleri, örneğin hizmet-içi eğitim gibi. Bunlar çocuğun gelişimine yardımcı olacakt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4. Engelli olmayanlarla  katılı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çocuğun diğer öğrencilerle ne kadar birlikte olamayacağını da açıklamalıd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5. Bölgesel veya tüm ülkede uygulanan testlere katılıp katılamayacağını bildirmelidi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te çocuğa verilecek testlerde ne tür bir değişiklik yapılacağını bildirmelidir. BEP  çocuk için uygun olmayan testlerin nedenlerini ve onun yerine hangi testlerin verilip verilmeyeceğini bildirmelid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6. Tarihler ve yerler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P  hizmetlerinin  ne zaman başlayacağını,  ne kadar sıklıkta olacağını,  nerede olacağını,  ne kadar süre devam edeceğini   belirtmelid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7. Geçiş  hizmetine gereksinimle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cuk bir programdan diğerine geçerken,  örneğin 15 yaşına geldiğinde çocuğun devam edeceği bir üst programın amaçlarına ulaşıp ulaşamayacağını veya nasıl ulaşabileceğini belirtmelid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8. Geçiş hizmetlerine duyulan gereksinimler</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Çocuk okuldan ayrılırken  nelere gereksinim duymaktadı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9. Çocuğun okuldan ayrılma yaşı ve hakları</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10. İlerlemeyi değerlendir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BEP; çocuğun nasıl değerlendirileceğini ve bunun nasıl olduğu ile ilgili ailenin bilgilendirilmesini belirtmesi gereki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Okulun ve ülkenin  istemleri konusunda  esneklik </a:t>
            </a:r>
            <a:r>
              <a:rPr b="0" lang="tr-TR" sz="3000" spc="-1" strike="noStrike">
                <a:solidFill>
                  <a:srgbClr val="000000"/>
                </a:solidFill>
                <a:latin typeface="Arial"/>
              </a:rPr>
              <a:t>BEP’te görülebilir.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azı ülkelerde veya okullarda farklı bilgiler BEP’te  olabilir. Örneğin; bazı okullar toplantıların zamanlarıyla birlikte nasıl olduğunu ve nelerin konuşulduğunu, çocuğun nasıl yerleştirileceğini, yerin özelliklerini,  ailenin de onayını alma gibi durumları detaylı olarak yazabilir</a:t>
            </a:r>
            <a:r>
              <a:rPr b="0" lang="tr-T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990099"/>
                </a:solidFill>
                <a:latin typeface="Arial"/>
              </a:rPr>
              <a:t>Farklı Yerlerdeki BEP Formlar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Aslında BEP’in  nasıl görüneceği ile bilgiler farklı olabilir. Örneğin, ABD’de farklı BEP formları kullanılıyor.  Önemli olan   her BEP formu açık net ve anlaşılır olmalıdır.  Önemli olan, bu hizmeti verenler kolayca bu hizmeti verebilecekleri özellikte olsu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 Ekip Üyeleri</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Yasalara göre; bazı bireyler, BEP yazılırken  zorunlu olarak orada yer almalıdırlar. BEP’te yer alan üyelerin önemli bilgileri toplantıya getirmeleri gerekir. Üyeler; bilgileri paylaşarak  BEP’i yazmaları gerekir. Her bireyin ekledikleri çocuğun ihtiyaçlarının karşılanması için bir katkı yapması gerek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68360" y="1413000"/>
          <a:ext cx="7993080" cy="4752720"/>
        </p:xfrm>
        <a:graphic>
          <a:graphicData uri="http://schemas.openxmlformats.org/drawingml/2006/table">
            <a:tbl>
              <a:tblPr/>
              <a:tblGrid>
                <a:gridCol w="549360"/>
                <a:gridCol w="896760"/>
                <a:gridCol w="897120"/>
                <a:gridCol w="898560"/>
                <a:gridCol w="549000"/>
                <a:gridCol w="2257560"/>
                <a:gridCol w="1079640"/>
                <a:gridCol w="865080"/>
              </a:tblGrid>
              <a:tr h="4752720">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ilel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ınıf öğretmenler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kul temsilcis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Öğren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Uzman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Sonuçları iyi yorumlayan b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zm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Özel eğitim öğretme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Okul geçiş programı temsilci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6" name=""/>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1. Aileler BEP ekibinin  anahtar üyeleridir. Onlar çocuklarını en iyi tanıyanlardır.  Onlar çocukların  nasıl öğrendiklerini,  onların ilgilerini iyi bilenlerdir.   Ayrıca okulda öğrenilenlerin evde pekiştirilip pekiştirelemediğini ve pratikte öğrencinin kullanıp kullanmadıkları konusunda önemli bilgi verirl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Arial"/>
              </a:rPr>
              <a:t>BEP </a:t>
            </a:r>
            <a:r>
              <a:rPr b="0" lang="en-US" sz="2100" spc="-1" strike="noStrike">
                <a:solidFill>
                  <a:srgbClr val="000000"/>
                </a:solidFill>
                <a:latin typeface="Arial"/>
              </a:rPr>
              <a:t>: </a:t>
            </a:r>
            <a:r>
              <a:rPr b="0" lang="en-US" sz="2100" spc="-1" strike="noStrike">
                <a:solidFill>
                  <a:srgbClr val="cc66ff"/>
                </a:solidFill>
                <a:latin typeface="Arial"/>
              </a:rPr>
              <a:t>BEP aile ile okul arasında çocuğun  ihtiyaçlarının ne olduğu ile  bu ihtiyaçların giderilmesine yönelik nelerin yapılacağı hakkında yazılı bir anlaşmadır. Bu program aslında  öğrenciye verilecek  hizmetler için bir anlaşmadır . Yasal düzenlemelere göre, bir BEP şunları içermelidir.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nin şimdiki  akademik performansı (düzey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 için yıllık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Uzun dönemli hedeflere yönelik  kısa dönemli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zel eğitim veya ilgili hizmetlerin n ne olacağı ve çocuğun bunlara katılım derec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Bu hizmetlerin başlama tarihi  ve sür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En azından yılda bir defa değerlendirme ile ilgili plan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Üst sınıflardaki öğrenciler için  üst öğrenim ya da iş için geçiş planları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2. Öğretmen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P’ e en az bir öğretmen katılmalıdır. Öğretmenler şu konuda bilgi verebilirle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ınıfta uygulanan genel progra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öğrenmesine yardım edecek, onu geliştirebilecek  ve başarabilecek gerekli araç-gereçler ve hizmetler</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davranış öğrenmesine yardım edecek  strateji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yrıca çocuğun  yapabilmesi için öğretmen, ekiple şunları tartışabili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un yıllık amaçları ile ilgili gelişim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l programı izleye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ışı etkinliklere katıla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ğer çocuklarla   eğitilebilme dur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yrıca öğretmenlerin profesyonel gelişimini de tartışabilir.  Mesleki gelişim, örneğin,  okul  öğretmenleri için,  yöneticiler,  taşıyıcılar,  kantin işletmecileri ve diğerleri –çocuğun gelişimine katkıda bulun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Özel eğitim öğretmeni ise</a:t>
            </a:r>
            <a:r>
              <a:rPr b="0" lang="en-US" sz="2800" spc="-1" strike="noStrike">
                <a:solidFill>
                  <a:srgbClr val="cc66ff"/>
                </a:solidFill>
                <a:latin typeface="Arial"/>
              </a:rPr>
              <a:t>,</a:t>
            </a:r>
            <a:r>
              <a:rPr b="0" lang="en-US" sz="2800" spc="-1" strike="noStrike">
                <a:solidFill>
                  <a:srgbClr val="000000"/>
                </a:solidFill>
                <a:latin typeface="Arial"/>
              </a:rPr>
              <a:t>  </a:t>
            </a:r>
            <a:r>
              <a:rPr b="0" lang="en-US" sz="2800" spc="-1" strike="noStrike">
                <a:solidFill>
                  <a:srgbClr val="990099"/>
                </a:solidFill>
                <a:latin typeface="Arial"/>
              </a:rPr>
              <a:t>engelli çocuğun nasıl eğitileceğine dair önemli bilgiler verir. Özel eğitim öğretmenleri şu konularda bilgiler verebili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mesi için programda nasıl değişim yapılabileceği</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başarılı olası için normal sınıflarda veya diğer yerlerde  hangi araç-gereçlere gereksinim duyduğu</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diklerinin nasıl ölçülüp değerlendirileceği konusund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engel derecesi ve türüne göre  bireysel öğretim boyutlarıyla ilgili  bilgileri verebil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rıca  BEP yazımının ötesinde,  BEP uygulanmasında özel görevleri de vardır.  </a:t>
            </a:r>
            <a:r>
              <a:rPr b="0" lang="en-US" sz="3600" spc="-1" strike="noStrike">
                <a:solidFill>
                  <a:srgbClr val="ff0000"/>
                </a:solidFill>
                <a:latin typeface="Arial"/>
              </a:rPr>
              <a:t>Özel eğitim öğretmeni;</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Öğrenci ile kaynak oda veya özel bir sınıfta bireysel çal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rmal sınıf öğretmeni ile Ekip öğretiminin nasıl olacağı ile ilgili bilgileri tart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Diğer okul personeli ile çocuğun özel ihtiyaçlarının ne olacağı ile ilgili bilgileri gerekli ve ilgili kişilerle tartışabilir</a:t>
            </a:r>
            <a:r>
              <a:rPr b="0" lang="en-US" sz="3200" spc="-1" strike="noStrike">
                <a:solidFill>
                  <a:srgbClr val="cc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Ayrıca çocuğun BEP uygulamasında nasıl bir öğretim yöntemi veya tekniğinin uygulanabileceği ile bilgiler verecektir.</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BEP ekibi çocuğun engeli ile yakından ilgili olan uzmanları da dahil etmesi gerekir. Örneğin, çocuğa mesleki eğitim veren eğitimcinin  çocuğun güçlü veya zayıf yönleri hakkında bilgi verebileceği unutulmamalıdır. Bunun gibi, fizyoterapist,  beden eğitimcisi,  psikolog,  konuşma veya dil  patoloğ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ekibi, ayrıca çocuğun kendisini BEP hazırlanırken veya bir üst okula veya okuldan ayrılma durumunu gözden geçirmek için mutlaka toplantıya çağırması gereki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EP Ekibinin Üyesi Olarak  Sınıf Öğretmeni</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ekibinde sınıf öğretmeninin de görev alması gerekir çünkü:</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Programın modifikasyonunda,</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Çocuğun genel programı izleyebilme ve başarı durumunun gözden geçirilmesind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Genel eğitim ortamına katılımı ve ne derece uyum sağlayabilmesi gibi durumların ortaya çıkarılmasında  için çok önemlidir.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Ancak her konu için sınıf öğretmeni katılmayabil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Ekibinin Kurulması İçin İlgili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EP için şu servislerin görev alması gerekir: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1.Odyoloji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2. Danışmanlık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3. Çocukları erken tanıma ve değerlendirme servis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4. Medikal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5. Mesleki eğitim verecek kurum temsilc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Taşıma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Aile danışmanlığı ve eğitimi veren kurumu</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Fizyoterapi serv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Psikoloji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oş zaman etkinlikleri ve spor kurum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ağlık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osyal çalışmacı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Konuşma ve dil patologları</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57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Transition Servisleri (Bir Üst Kuruma Geçiş veya Okuldan Ayrılma ve Hayata Hazırlık)</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Engelli çocuğun gerçek hayata  hazırlanmasıdır. Yükseköğretime hazırlık,  mesleki eğitim, mesleki eğitim verebilecek kurumlarla iletişim, okulda çocuğun  tercihleri,  becerileri ve gereksinimlerine göre   geliştirilmesidir. İki şekilde bu plan yapılabilir.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planının  yapılması (14 yaşında)</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hizmeti verme (16 yaşında). Bunun için çocuğun okuldan ayrılarak gerçek hayata uyum sağlaması için yapılan hizmetler. Bu  hizmetler örneğin, çocuğun ilgi ve ihtiyaçları karşısında, yükseköğretim,  iş,  yetişkinlik hizmetleri,  bağımsız yaşam,  toplumda  yaşam ve sorumluluk alma. </a:t>
            </a:r>
            <a:endParaRPr b="0" lang="en-US" sz="2600" spc="-1" strike="noStrike">
              <a:solidFill>
                <a:srgbClr val="000000"/>
              </a:solidFill>
              <a:latin typeface="Arial"/>
            </a:endParaRPr>
          </a:p>
          <a:p>
            <a:pPr marL="5716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zel eğitime muhtaç her bir çocuk  Bireysel Eğitim Programına (BEP)  sahip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 bir BEP tekbir öğrenci için olmalıdır ve  gerçekten  bireye ait bir doküman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öğretmenler için, aileler için, okul yöneticileri için  özel eğitim hizmeti veren  personel için, uygun olan zamanda engelli bir öğrencinin  eğitim ve diğer yönden  gelişimiyle ilgili sonuçları geliştirmeye  yönelik birlikte çalışılmasını gerektiren bir prog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BEP Yazımı</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Bütün bilgilerden sonra , gözlemleri,  testler, ve diğer işlemlerden sonra çocuğun hali hazırdaki durumu yani ‘eğitim performansının şimdiki durumu’  bilindikten sonra çocuğun BEP için Uzun dönemli denilen veya yıllık amaçlar dediğimiz hedeflerin belirlenmesine sıra gelecektir. Ayrıca BEP çocuğun özel durumlarını da tartışacaktır. Bunlar:</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1. Çocuğun  güçlü yön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Çocuğun eğitimini geliştirmek için ailenin görüş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Varsa önceki değerlendirmenin gözden geçirilmesi  ve,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Çocuğun aldığı testlerdeki başarılarıdı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yrıca  BEP’te  şunlar da  düşünmesi gerekir.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ğa nasıl yardım edilecek boyutunda çocuğun gereksinimlerinin de tartışılması da önemlidi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Yıllık amaçların avantajı (çocuğa sağlayacak faydalar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Genel programdaki ilerlemesi ve katılım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xtra program ve  akademik olmayan aktivitele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ngelli çocuğun diğer engellilerle ve engelli olmayanlarla kaynaştırılması da tartışılmalıdır. </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unlar tartışıldıktan sonra  BEP ekibi BEP’i yazmaya başlayacaklardı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 </a:t>
            </a:r>
            <a:r>
              <a:rPr b="0" lang="tr-TR" sz="2600" spc="-1" strike="noStrike">
                <a:solidFill>
                  <a:srgbClr val="009900"/>
                </a:solidFill>
                <a:latin typeface="Arial"/>
              </a:rPr>
              <a:t>BEP servisleri ve destekleri kapsayacaktır. Bunların okul tarafından karşılanması gerekir. Eğer çocuk özel gereksinimleri varsa  örneğin, müdahale,  yer,  diğer program modifikasyonları)  BEP’te yazılması gerekir. Örneğin, çocuğun davranışları onun öğrenmesini zorlaştırıyorsa BEP ekibi  bu davranışı yazmak zorundalar. BEP ekibi pozitif davranışsal müdahaleyi,  stratejileri ve davranışını kontrol etmek için gerekli stratejileri de belirtmeleri gerek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ff"/>
                </a:solidFill>
                <a:latin typeface="Arial"/>
              </a:rPr>
              <a:t>Düşünülmesi gereken Özel Faktörler</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ihtiyaçlarına bağlı olarak,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davranışı  diğerlerinin ve kendi öğrenmesini  engelliyorsa  çocuğun davranışları için  destek ve stratejilerin bilinmesi gereki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sınırlı dil gelişimine sahipse  çocuğun dilinin nasıl geliştirilmesi gerektiği düşünülecek,</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ta görme kusuru varsa,  bu çocuğa  Braille  ile yazılan eğitsel araç-gerecin verilmesi gerektiği,</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tkili bir iletişim için dilin geliştirilmesi ile  ilgili ihtiyacı varsa</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işitme engelli ve doğal sözel konuşma yolu ile anlamakta güçlükleri varsa, işaret diline izin vermek gerekir.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Teknolojinin de düşünülmesi gerekir.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Çocuğun Ailesinin bir Interpreter’a gereksinim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 </a:t>
            </a:r>
            <a:r>
              <a:rPr b="0" lang="tr-TR" sz="3000" spc="-1" strike="noStrike">
                <a:solidFill>
                  <a:srgbClr val="009900"/>
                </a:solidFill>
                <a:latin typeface="Arial"/>
              </a:rPr>
              <a:t>Bazı aileler konuşulan dili çok iyi anlayamıyor olabilirler. Bu bağlamda onunla ilgili bireyleri bağlantı kuracak birisini bulmaları gerekir. Örneğin, BEP için toplantılarda veya gözden geçirmelerde eğer aile konuşulanları anlayamıyor ise, mutlaka bir interpreter bulmalıdır. Bu yaklaşım ailenin katılımını sağlayacakt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Uygun Ortama Karar ver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k için uygun ortam dediğiniz çocuk nerede eğitilecek konusunun kararlaştırılması gerekir. Aile ve BEP ekibinin bunun nerede yapılacağına karar verilmesi gerekir. Bu ortam ‘En az kısıtlayıcı ortam’ (EKO) olması gerekir. Şu tür  ortamlar olabil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Regular bir sınıf,</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sınıf ki her birey Ö.E. hizmeti alıyo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Oku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v,</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Hastane vey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diğer çeşit bir ortam olabil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okul etkili ve uygun bir ortam ayarlamak için şunları göz önünde bulundurması gereki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Çocuğun kendisi için en uygun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iğer bir okulla anlaşarak onun için bir program geliştirilmesine katkı yapmak zorund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BEP yazıldıktan sonra</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hazırlandıktan sonr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Aileye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Sınıf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Özel eğitim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İlgili servislerin elemanlarına (uzmanlarına) verilmesi gerekir. Çünkü her birisi çocuğun gereksinimlerinin ne olduğunu bilmesi gerekir.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in Uygulanması</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BEP yazıldıktan sonra sıra onun uygulanması ile devam eder. BEP’te ne gerekli görüldüyse onun çocuk için hazır hale getirilmesi gerekir. Ancak BEP’in  etkili uygulanması için şunlarda göz önüne alınması gerekir. </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te görev alan her birey  sorumluluğunu bilmeli ve tam olarak yapmalıdı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kip çalışması çok önemlidir. Öğretmen ve destek öğretmeni çocuğa daha iyi eğitim verebilmek için diğer uzmanlardan yardım isterse okul bunun için koşulsuz destek o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ile ve okul arasında iyi bir iletişim kuru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 koordinasyonunu sağlayacak birisi görevlendirilmeli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ni BEP her bir engelli çocuğun kaliteli eğitimi için  köşe taş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destek  servisleri için  engelli bir çocuğa ne tür bir hizmet vereceklerine rehberlik ede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bir ekip çalışmas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aynı zamanda yasal düzenlemelerde istenenler üzerine temellendirilmesi gerekir.</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P okuldan okula, eğitim sistemlerinden eğitim sistemlerine göre düzenlenmesi açısından farklılık göster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her BEP çocuk için önemlid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476280"/>
            <a:ext cx="8229600" cy="5649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i açıklamadan önce çocuğun  nasıl tanılanacağı ile ilgili bazı bilgilerin  verilmesi gerek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1:</a:t>
            </a:r>
            <a:r>
              <a:rPr b="0" lang="tr-TR" sz="2600" spc="-1" strike="noStrike">
                <a:solidFill>
                  <a:srgbClr val="000000"/>
                </a:solidFill>
                <a:latin typeface="Arial"/>
              </a:rPr>
              <a:t> </a:t>
            </a:r>
            <a:r>
              <a:rPr b="0" lang="tr-TR" sz="2600" spc="-1" strike="noStrike">
                <a:solidFill>
                  <a:srgbClr val="ff9966"/>
                </a:solidFill>
                <a:latin typeface="Arial"/>
              </a:rPr>
              <a:t>Çocuk her şeyden önce  özel eğitime muhtaç mıdır ve Özel eğitimle ilgili hizmetlere ihtiyaç duymakta m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nce çocuğu ‘tanıla ve bul’ etkinliklerin yerine getirilmesi gerekir. Bunun için ya aile çocuğun tanılanmasını ister ya da  okuldaki öğretmen  çocuğun değerlendirilmesini ister.  Bu istek ya yazılı yada sözel olab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ncak bunun için ailenin görüşünün alınması gereki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549360"/>
            <a:ext cx="8229600" cy="5400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2:</a:t>
            </a:r>
            <a:r>
              <a:rPr b="0" lang="en-US" sz="2100" spc="-1" strike="noStrike">
                <a:solidFill>
                  <a:srgbClr val="000000"/>
                </a:solidFill>
                <a:latin typeface="Arial"/>
              </a:rPr>
              <a:t> Çocuk değerlendi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3</a:t>
            </a:r>
            <a:r>
              <a:rPr b="0" lang="en-US" sz="2100" spc="-1" strike="noStrike">
                <a:solidFill>
                  <a:srgbClr val="000000"/>
                </a:solidFill>
                <a:latin typeface="Arial"/>
              </a:rPr>
              <a:t>: Çocuk  Ö.E. M. olup olmadığı durumuna karar veril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4: </a:t>
            </a:r>
            <a:r>
              <a:rPr b="0" lang="en-US" sz="2100" spc="-1" strike="noStrike">
                <a:solidFill>
                  <a:srgbClr val="000000"/>
                </a:solidFill>
                <a:latin typeface="Arial"/>
              </a:rPr>
              <a:t>Çocuk Ö.E.M. Çocuk olarak değerlendirilirse 30 gün içersinde BEP ekibi çocuk için toplanı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5:</a:t>
            </a:r>
            <a:r>
              <a:rPr b="0" lang="en-US" sz="2100" spc="-1" strike="noStrike">
                <a:solidFill>
                  <a:srgbClr val="000000"/>
                </a:solidFill>
                <a:latin typeface="Arial"/>
              </a:rPr>
              <a:t> BEP toplantıları bir plan dahilinde yapılması kararlaştırılır. Bu bağlamda  okuldaki personelin  şunları yapması gereki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EP ekibi ve aile ile iletişim kur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Çocuk için uygun yer ve zamanında toplantı için aile ve okul  ekibi birlikte planlama yap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toplantının amacı toplantının  yeri ve zamanı da anlatılı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BEP toplantısına kimlerin katılacağı ve neden katılacağı konusunda bilgi ve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475920"/>
            <a:ext cx="8229600" cy="5683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6</a:t>
            </a:r>
            <a:r>
              <a:rPr b="0" lang="tr-TR" sz="2600" spc="-1" strike="noStrike">
                <a:solidFill>
                  <a:srgbClr val="000000"/>
                </a:solidFill>
                <a:latin typeface="Arial"/>
              </a:rPr>
              <a:t>: Toplantı yapılır ve BEP yazıl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ekibi çocuğun ihtiyaçlarının ne olduğunu tartışır ve  BEP’i yaza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ileler ve öğrenci BEP ekibinin doğal parçasıdırla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toplantıdan sonra çocuğa verilecek hizmetler çok kısa zamanda başlatılmal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7</a:t>
            </a:r>
            <a:r>
              <a:rPr b="0" lang="tr-TR" sz="2600" spc="-1" strike="noStrike">
                <a:solidFill>
                  <a:srgbClr val="000000"/>
                </a:solidFill>
                <a:latin typeface="Arial"/>
              </a:rPr>
              <a:t>: Hizmetler sağlan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şamada çocuk için hazırlanan BEP’in yazılı formunun kopyası hizmet vereceklere ücretsiz ver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8:</a:t>
            </a:r>
            <a:r>
              <a:rPr b="0" lang="tr-TR" sz="2100" spc="-1" strike="noStrike">
                <a:solidFill>
                  <a:srgbClr val="000000"/>
                </a:solidFill>
                <a:latin typeface="Arial"/>
              </a:rPr>
              <a:t>  Süreç ve ilerlemeler  değerlendirilir ve aileye de  bilgi verilir.  BEP teki yıllık amaçlara çocuk ne kadar  yaklaştı konusunda aileye yaşıtlarıyla da karşılaştırılarak bilgi ve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9:</a:t>
            </a:r>
            <a:r>
              <a:rPr b="0" lang="tr-TR" sz="2100" spc="-1" strike="noStrike">
                <a:solidFill>
                  <a:srgbClr val="000000"/>
                </a:solidFill>
                <a:latin typeface="Arial"/>
              </a:rPr>
              <a:t>   BEP gözden geç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ılda en az bir defa gözden geçirilir. Eğer gerekirse BEP’te düzeltmeler yapılı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10</a:t>
            </a:r>
            <a:r>
              <a:rPr b="0" lang="tr-TR" sz="2100" spc="-1" strike="noStrike">
                <a:solidFill>
                  <a:srgbClr val="000000"/>
                </a:solidFill>
                <a:latin typeface="Arial"/>
              </a:rPr>
              <a:t>: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n azından her üç yılda çocuk bir defa  yeniden değerlendirilir. Bunun amacı çocuğun özel eğitime muhtaçlık durumu devam ediyor mu sorusuna cevap vermektir. Varsa nasıl bir ihtiyacı var. Eğer aile veya öğretmen  isterse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229600" cy="5577120"/>
          </a:xfrm>
          <a:prstGeom prst="rect">
            <a:avLst/>
          </a:prstGeom>
          <a:noFill/>
          <a:ln w="0">
            <a:noFill/>
          </a:ln>
        </p:spPr>
        <p:txBody>
          <a:bodyPr lIns="90000" rIns="90000" tIns="46800" bIns="46800"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nedir?</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engelli çocuk için önemlidir.  BEP,  öğretim, öğrenme  ve sonuçları geliştirmesi gerekir. BEP çocuğun kendine has gereksinimlerini karşılaması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yazarken şunlara dikkat edilmesi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in İçeriği</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Yasal düzenlemeler göre de  BEP şu bilgiler içermelidir. </a:t>
            </a:r>
            <a:endParaRPr b="0" lang="en-US" sz="2100" spc="-1" strike="noStrike">
              <a:solidFill>
                <a:srgbClr val="000000"/>
              </a:solidFill>
              <a:latin typeface="Arial"/>
            </a:endParaRPr>
          </a:p>
          <a:p>
            <a:pPr marL="565920" indent="-5659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Şimdiki performansı</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BEP çocuğun halihazırda okulda ne ve nasıl yapıyor sorusuna cevap vermelidir. BEP’teki bu bilgi   sınıfta yapılan testlerden,  ödevlerden,  bireysel testlerde,  ve gözlemlerden-  aileler,  öğretmenler,  ve diğerlerinden gelir. Bu bilgi çocuğun derslere katılımını ve genel programdaki ilerlemesi konusunda kendisini nasıl etkilediği ile ilgili bilgileri de içermelid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0:38:22Z</dcterms:created>
  <dc:creator>Hakan Sarı</dc:creator>
  <dc:description/>
  <dc:language>en-US</dc:language>
  <cp:lastModifiedBy>Your User Name</cp:lastModifiedBy>
  <dcterms:modified xsi:type="dcterms:W3CDTF">2005-07-19T22:24:42Z</dcterms:modified>
  <cp:revision>45</cp:revision>
  <dc:subject/>
  <dc:title>Özel Eğitimde Bireyselleştirilmiş Eğitim Programları Geliştirme Semineri  18-22 Temmuz 2005  Esenköy Hizmet-içi Eğitim Enstitüsü  - Yalova</dc:title>
</cp:coreProperties>
</file>